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4D65-DAD3-45AF-BAD3-0645FD43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1B24-1EBD-419A-9FAE-33ECC93779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F8BA-A192-4216-B6AC-6C90455D56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E95C-3C12-402D-855A-8C99818489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C17-B0C4-421E-BE62-D9300A175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F130-9D73-4B0C-BFB1-6CC6162A05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5BAB-6D87-4D35-A81D-DCA5E97710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0A91-1BFA-48D6-82E2-4A6D64023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4B17-C568-44AF-B984-EE8A288EE3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93E8-DEC1-46E7-946A-488D122B76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AB5E-5C4E-433D-BFFB-8EEEE9F1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DEDE-3B67-42D6-90EA-C337E8D6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264B-03CD-49DC-9157-9FD258A2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75B9-3018-4804-AC11-029B0CFF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4A7F-97A5-4A9F-938A-03A3942B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97D3-566B-40F2-A478-6A50E745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5378-BFC7-4C94-B01C-DF93A80A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E7BC-AFE2-41E2-A19F-76180CB1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31F1-5957-4618-9E8D-C6C4709B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93F3-4B73-45AE-99F2-300897F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332D-8155-4885-B2BC-5274DDB1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90CA-F9A4-477A-A66E-884FAA71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D8AE-4104-4826-90C9-AC3175AA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DB37-00BE-4CE4-95EC-A01E47CF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D4B8-6D18-4AF7-BBC8-1063A75D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25A2-D784-406C-90D6-B72B5F61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07D3-E71D-4C4E-BF55-4EEDA4B7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A42D-D951-48B9-84A3-A632BC36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C0D0-0A51-40A6-9E07-BF1480D9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C781-FDD4-484A-9DB9-58E45AF9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CECF-3982-4ECD-AF9F-4A3B144E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CBC5-9A68-4310-B9AD-2521B32B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2B9F-981B-48D9-ACE3-F6491B3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AA91-7A81-481F-9ED0-663C83C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F4BB-133E-471A-BF04-FAA56B56B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8088-4C21-48F9-BBD5-EC75F09A01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Do Now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pply a narrative theory to the posters you have been giv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railer Acti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ook at the following film trailers, how do they reveal important details about narrative without giving away the whole plo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ven though you might not have seen the film, do most trailers use linear narratives or non linear narrativ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TASK-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Fill in the sheet in your  book whilst watc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Your trail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ake notes on the narrative of your trail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sider the follow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e pl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e exposi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Linear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he narrative is told- filmmaking methods, cinematograph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use of s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di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as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atch the opening sequence of </a:t>
            </a:r>
            <a:r>
              <a:rPr b="1" i="1" lang="en-GB" sz="2800" spc="-1" strike="noStrike">
                <a:solidFill>
                  <a:srgbClr val="ffffff"/>
                </a:solidFill>
                <a:latin typeface="Garamond"/>
              </a:rPr>
              <a:t>‘Oceans 11’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, Using your worksheet, note down the elements of the narrative structure in how we are introduced to the film and how the story is being to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is the diegesis and exposition set u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s it a linear narrativ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oes the editing use time relationship to condense periods of time in order to tell the story bette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Moving Image Narrativ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is Narrativ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arrative is the process of story constr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t is also how content is selected and arranged in order to give meaning to the audi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rite 5 things you did over half term (apart from sleep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How do we know which order you did them 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’s the story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lot: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term plot is used to describe everything visibly and audibly present in the film narrativ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plot can also feature ‘non –diegetic’ techniques such as music, voiceover and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rite down the plot of your film in 5 poi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Expo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496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expositio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is another word for establishing. It s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up the film world, characters, setting, era and them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The exposition often sets off the chain of events to get t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narrative motivation go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The exposition of a film does not necessarily have to st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t the beginning of a narrativ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s we have already mentioned film plots can often beg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 the middle and flashback or for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Task: Watch this trailer? What is the expositi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What is the exposition of your trailer and how is tol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inear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nearity/Chronology: simply the ordering or sequencing of events. This is often referred to as the narrative structure. Non– linear narratives are not told in ord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other editing techniques do filmmakers use to create non-linear narrativ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Out of order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What do linear and non-linear me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st if not all trailers are told in a non linear narrative structure. Wh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kind of editing method do trailers u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ontage editing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s used in trailers. Trailers are a ‘jigsaw puzzle’ that the audience piece together to make a semblance of meaning. The film itself maybe linear but trailers never 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ime and cause and ef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is refers to the way films are moved forward by scene or event. This is otherwise known as motiv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For example: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Cause-A murder is committed. Effect- the police investig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 story takes bits of information and puts them together in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time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(in chronological or non-chronological order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Narrative- Audience Manipulation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y do filmmakers use narrative in inventive way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tease audien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mislead them deliberate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hold in suspe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be released from suspe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o inform us of a character's pa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o that we can understand a character's motiv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1:28:01Z</dcterms:created>
  <dc:creator> </dc:creator>
  <dc:description/>
  <dc:language>en-US</dc:language>
  <cp:lastModifiedBy>Permaul, Pravin</cp:lastModifiedBy>
  <dcterms:modified xsi:type="dcterms:W3CDTF">2013-04-19T11:31:05Z</dcterms:modified>
  <cp:revision>32</cp:revision>
  <dc:subject/>
  <dc:title>Narrative</dc:title>
</cp:coreProperties>
</file>